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9939338" cy="14366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C29-AD3F-458A-9A0D-9612ACD9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19E-5F9D-43A5-A3DF-DA5CD2C4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729E-1F47-46D1-AB54-20325905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B68D-BFDD-4403-A6C5-C507663E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6C1B-CDA1-4FA9-8809-47948124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07B-ADB3-4E22-B85D-02DF0D07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CA5-BC31-41E4-81D6-CC690AE0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0BB-57A5-4D1B-9BBF-1E013F07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E677-BFE3-4D3A-B6B0-E264CBB7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1441-433D-4DFE-BA01-5B2C3BA6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786-7B68-416A-8C81-FFAAA2A6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AC5-82E0-412D-8C1F-1A7C0B38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1800"/>
            <a:ext cx="16002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1800"/>
            <a:ext cx="21715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1800"/>
            <a:ext cx="16002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9E5D-A889-40F9-8B6B-11580931ED0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11"/>
          <p:cNvSpPr/>
          <p:nvPr/>
        </p:nvSpPr>
        <p:spPr>
          <a:xfrm>
            <a:off x="0" y="920880"/>
            <a:ext cx="6958080" cy="84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TextBox 18"/>
          <p:cNvSpPr/>
          <p:nvPr/>
        </p:nvSpPr>
        <p:spPr>
          <a:xfrm>
            <a:off x="2817720" y="1042920"/>
            <a:ext cx="40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주 일요일 및 공휴일 오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립김해박물관 강당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직사각형 37"/>
          <p:cNvSpPr/>
          <p:nvPr/>
        </p:nvSpPr>
        <p:spPr>
          <a:xfrm>
            <a:off x="-243000" y="9274320"/>
            <a:ext cx="73454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Box 18"/>
          <p:cNvSpPr/>
          <p:nvPr/>
        </p:nvSpPr>
        <p:spPr>
          <a:xfrm>
            <a:off x="-27000" y="9275760"/>
            <a:ext cx="6885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위 상영일정 및 내용은 박물관 사정에 따라 변경될 수 있습니다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강당 입장은 영화 시작 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30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분 전부터 선착순이며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무료로 감상하실 수 있습니다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Box 18"/>
          <p:cNvSpPr/>
          <p:nvPr/>
        </p:nvSpPr>
        <p:spPr>
          <a:xfrm>
            <a:off x="44280" y="9347040"/>
            <a:ext cx="6885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위 상영일정 및 내용은 박물관 사정에 따라 변경될 수 있습니다</a:t>
            </a:r>
            <a:r>
              <a:rPr b="1" lang="en-US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강당 입장은 영화 시작 </a:t>
            </a:r>
            <a:r>
              <a:rPr b="1" lang="en-US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30</a:t>
            </a: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분 전부터 선착순이며</a:t>
            </a:r>
            <a:r>
              <a:rPr b="1" lang="en-US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무료로 감상하실 수 있습니다</a:t>
            </a:r>
            <a:r>
              <a:rPr b="1" lang="en-US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직사각형 34" descr=""/>
          <p:cNvPicPr/>
          <p:nvPr/>
        </p:nvPicPr>
        <p:blipFill>
          <a:blip r:embed="rId1"/>
          <a:stretch/>
        </p:blipFill>
        <p:spPr>
          <a:xfrm>
            <a:off x="579600" y="122400"/>
            <a:ext cx="5754600" cy="1261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4"/>
          <p:cNvSpPr/>
          <p:nvPr/>
        </p:nvSpPr>
        <p:spPr>
          <a:xfrm>
            <a:off x="4603680" y="819324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&lt;</a:t>
            </a:r>
            <a:r>
              <a:rPr b="1" lang="ko-KR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유사시 상영작</a:t>
            </a:r>
            <a:r>
              <a:rPr b="1" lang="en-US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아이스 에이지</a:t>
            </a:r>
            <a:r>
              <a:rPr b="1" lang="en-US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4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: </a:t>
            </a:r>
            <a:r>
              <a:rPr b="1" lang="ko-KR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대륙이동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메이션 </a:t>
            </a: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92</a:t>
            </a: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22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Rectangle 26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Rectangle 28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32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34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37" descr="D:\2017\2. 가족영화감상회\6월\6. 아이스에이지4 대륙이동설.jpg"/>
          <p:cNvPicPr/>
          <p:nvPr/>
        </p:nvPicPr>
        <p:blipFill>
          <a:blip r:embed="rId2"/>
          <a:stretch/>
        </p:blipFill>
        <p:spPr>
          <a:xfrm>
            <a:off x="4834080" y="5867280"/>
            <a:ext cx="1579320" cy="2256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24"/>
          <p:cNvSpPr/>
          <p:nvPr/>
        </p:nvSpPr>
        <p:spPr>
          <a:xfrm>
            <a:off x="-243000" y="4573440"/>
            <a:ext cx="2880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쥬얼펫</a:t>
            </a:r>
            <a:r>
              <a:rPr b="1" lang="en-US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: </a:t>
            </a:r>
            <a:r>
              <a:rPr b="1" lang="ko-KR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스위트댄스 프린세스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77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2239920" y="4573440"/>
            <a:ext cx="23544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3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호박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45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177840" y="8383680"/>
            <a:ext cx="2171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6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몬스터 호텔</a:t>
            </a:r>
            <a:r>
              <a:rPr b="1" lang="en-US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89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Box 24"/>
          <p:cNvSpPr/>
          <p:nvPr/>
        </p:nvSpPr>
        <p:spPr>
          <a:xfrm>
            <a:off x="2336760" y="8383680"/>
            <a:ext cx="21718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매직키드 보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94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24"/>
          <p:cNvSpPr/>
          <p:nvPr/>
        </p:nvSpPr>
        <p:spPr>
          <a:xfrm>
            <a:off x="4149720" y="4570560"/>
            <a:ext cx="3240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화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정글번치</a:t>
            </a:r>
            <a:r>
              <a:rPr b="1" lang="en-US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: </a:t>
            </a:r>
            <a:r>
              <a:rPr b="1" lang="ko-KR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너구리 해적단과 보물지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67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" name="Picture 35" descr="D:\2018\정부혁신 로고\★정부혁신 main BI-4.jpg"/>
          <p:cNvPicPr/>
          <p:nvPr/>
        </p:nvPicPr>
        <p:blipFill>
          <a:blip r:embed="rId3"/>
          <a:srcRect l="0" t="0" r="0" b="25907"/>
          <a:stretch/>
        </p:blipFill>
        <p:spPr>
          <a:xfrm>
            <a:off x="5199120" y="9056520"/>
            <a:ext cx="1492200" cy="72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D:\2018\2. 가족영화감상회\9월\5. 매직키드 보보.jpg"/>
          <p:cNvPicPr/>
          <p:nvPr/>
        </p:nvPicPr>
        <p:blipFill>
          <a:blip r:embed="rId4"/>
          <a:stretch/>
        </p:blipFill>
        <p:spPr>
          <a:xfrm>
            <a:off x="2349360" y="5326200"/>
            <a:ext cx="2127240" cy="3033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1" descr="D:\2018\2. 가족영화감상회\9월\1. 극장판 쥬얼펫 스위트댄스 프린세스.jpg"/>
          <p:cNvPicPr/>
          <p:nvPr/>
        </p:nvPicPr>
        <p:blipFill>
          <a:blip r:embed="rId5"/>
          <a:stretch/>
        </p:blipFill>
        <p:spPr>
          <a:xfrm>
            <a:off x="95400" y="1535040"/>
            <a:ext cx="2122200" cy="3032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2" descr="D:\2018\2. 가족영화감상회\9월\2. 호박전.jpg"/>
          <p:cNvPicPr/>
          <p:nvPr/>
        </p:nvPicPr>
        <p:blipFill>
          <a:blip r:embed="rId6"/>
          <a:stretch/>
        </p:blipFill>
        <p:spPr>
          <a:xfrm>
            <a:off x="2347920" y="1544760"/>
            <a:ext cx="2138400" cy="3022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D:\2018\2. 가족영화감상회\9월\3. 정글번치 너구리해적단과 보물지도.jpg"/>
          <p:cNvPicPr/>
          <p:nvPr/>
        </p:nvPicPr>
        <p:blipFill>
          <a:blip r:embed="rId7"/>
          <a:stretch/>
        </p:blipFill>
        <p:spPr>
          <a:xfrm>
            <a:off x="4610160" y="1544760"/>
            <a:ext cx="2146320" cy="3025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4" descr="D:\2018\2. 가족영화감상회\9월\4. 몬스터 호텔2.jpg"/>
          <p:cNvPicPr/>
          <p:nvPr/>
        </p:nvPicPr>
        <p:blipFill>
          <a:blip r:embed="rId8"/>
          <a:stretch/>
        </p:blipFill>
        <p:spPr>
          <a:xfrm>
            <a:off x="95400" y="5332320"/>
            <a:ext cx="21254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08:15:57Z</dcterms:created>
  <dc:creator>user</dc:creator>
  <dc:description/>
  <dc:language>en-US</dc:language>
  <cp:lastModifiedBy>정미은</cp:lastModifiedBy>
  <dcterms:modified xsi:type="dcterms:W3CDTF">2018-08-27T01:12:51Z</dcterms:modified>
  <cp:revision>745</cp:revision>
  <dc:subject/>
  <dc:title>슬라이드 1</dc:title>
</cp:coreProperties>
</file>