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CC4-F24E-440D-A8E8-E157EDDA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058-0E49-47C9-8A70-B516BAD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433-E5B8-43C8-85FB-B4EE7A9C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BE1-94B7-49AD-B346-B983A1B1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C6C-4986-4783-9FF4-1B647527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109-8D9A-43F6-AD52-76C5460C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C94-A41A-4326-BB73-B2E121B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CB6-CFA2-4884-B564-24264079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E1C-607B-4D49-AA43-A5CB87EC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A15-34BE-43CA-9427-756652F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DFC-C916-4282-8F4A-0AF4EFEF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84D-E03C-4223-8A9D-DB6A000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C733-6F87-4307-B561-F98555F3124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11"/>
          <p:cNvSpPr/>
          <p:nvPr/>
        </p:nvSpPr>
        <p:spPr>
          <a:xfrm>
            <a:off x="0" y="920880"/>
            <a:ext cx="6958080" cy="84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2817720" y="104292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주 일요일 및 공휴일 오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립김해박물관 강당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37"/>
          <p:cNvSpPr/>
          <p:nvPr/>
        </p:nvSpPr>
        <p:spPr>
          <a:xfrm>
            <a:off x="-243000" y="9274320"/>
            <a:ext cx="7345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8"/>
          <p:cNvSpPr/>
          <p:nvPr/>
        </p:nvSpPr>
        <p:spPr>
          <a:xfrm>
            <a:off x="-27000" y="927576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44280" y="934704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직사각형 34" descr=""/>
          <p:cNvPicPr/>
          <p:nvPr/>
        </p:nvPicPr>
        <p:blipFill>
          <a:blip r:embed="rId1"/>
          <a:stretch/>
        </p:blipFill>
        <p:spPr>
          <a:xfrm>
            <a:off x="579600" y="122400"/>
            <a:ext cx="5754600" cy="1261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4"/>
          <p:cNvSpPr/>
          <p:nvPr/>
        </p:nvSpPr>
        <p:spPr>
          <a:xfrm>
            <a:off x="4603680" y="819324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lt;</a:t>
            </a:r>
            <a:r>
              <a:rPr b="1" lang="ko-KR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유사시 상영작</a:t>
            </a: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아이스 에이지</a:t>
            </a: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: </a:t>
            </a: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대륙이동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메이션 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92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26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28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3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3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37" descr="D:\2017\2. 가족영화감상회\6월\6. 아이스에이지4 대륙이동설.jpg"/>
          <p:cNvPicPr/>
          <p:nvPr/>
        </p:nvPicPr>
        <p:blipFill>
          <a:blip r:embed="rId2"/>
          <a:stretch/>
        </p:blipFill>
        <p:spPr>
          <a:xfrm>
            <a:off x="4834080" y="5867280"/>
            <a:ext cx="1579320" cy="2256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4"/>
          <p:cNvSpPr/>
          <p:nvPr/>
        </p:nvSpPr>
        <p:spPr>
          <a:xfrm>
            <a:off x="-243000" y="4573440"/>
            <a:ext cx="2880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쥬얼펫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: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스위트댄스 프린세스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77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2239920" y="4573440"/>
            <a:ext cx="2354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3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호박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45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177840" y="838368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6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몬스터 호텔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89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2336760" y="8383680"/>
            <a:ext cx="2171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매직키드 보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4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4149720" y="4570560"/>
            <a:ext cx="3240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정글번치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: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너구리 해적단과 보물지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67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35" descr="D:\2018\정부혁신 로고\★정부혁신 main BI-4.jpg"/>
          <p:cNvPicPr/>
          <p:nvPr/>
        </p:nvPicPr>
        <p:blipFill>
          <a:blip r:embed="rId3"/>
          <a:srcRect l="0" t="0" r="0" b="25907"/>
          <a:stretch/>
        </p:blipFill>
        <p:spPr>
          <a:xfrm>
            <a:off x="5199120" y="9056520"/>
            <a:ext cx="1492200" cy="7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D:\2018\2. 가족영화감상회\9월\5. 매직키드 보보.jpg"/>
          <p:cNvPicPr/>
          <p:nvPr/>
        </p:nvPicPr>
        <p:blipFill>
          <a:blip r:embed="rId4"/>
          <a:stretch/>
        </p:blipFill>
        <p:spPr>
          <a:xfrm>
            <a:off x="2349360" y="5326200"/>
            <a:ext cx="2127240" cy="30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D:\2018\2. 가족영화감상회\9월\1. 극장판 쥬얼펫 스위트댄스 프린세스.jpg"/>
          <p:cNvPicPr/>
          <p:nvPr/>
        </p:nvPicPr>
        <p:blipFill>
          <a:blip r:embed="rId5"/>
          <a:stretch/>
        </p:blipFill>
        <p:spPr>
          <a:xfrm>
            <a:off x="95400" y="1535040"/>
            <a:ext cx="2122200" cy="3032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D:\2018\2. 가족영화감상회\9월\2. 호박전.jpg"/>
          <p:cNvPicPr/>
          <p:nvPr/>
        </p:nvPicPr>
        <p:blipFill>
          <a:blip r:embed="rId6"/>
          <a:stretch/>
        </p:blipFill>
        <p:spPr>
          <a:xfrm>
            <a:off x="2347920" y="1544760"/>
            <a:ext cx="2138400" cy="302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D:\2018\2. 가족영화감상회\9월\3. 정글번치 너구리해적단과 보물지도.jpg"/>
          <p:cNvPicPr/>
          <p:nvPr/>
        </p:nvPicPr>
        <p:blipFill>
          <a:blip r:embed="rId7"/>
          <a:stretch/>
        </p:blipFill>
        <p:spPr>
          <a:xfrm>
            <a:off x="4610160" y="1544760"/>
            <a:ext cx="2146320" cy="30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D:\2018\2. 가족영화감상회\9월\4. 몬스터 호텔2.jpg"/>
          <p:cNvPicPr/>
          <p:nvPr/>
        </p:nvPicPr>
        <p:blipFill>
          <a:blip r:embed="rId8"/>
          <a:stretch/>
        </p:blipFill>
        <p:spPr>
          <a:xfrm>
            <a:off x="95400" y="5332320"/>
            <a:ext cx="21254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8:15:57Z</dcterms:created>
  <dc:creator>user</dc:creator>
  <dc:description/>
  <dc:language>en-US</dc:language>
  <cp:lastModifiedBy>정미은</cp:lastModifiedBy>
  <dcterms:modified xsi:type="dcterms:W3CDTF">2018-08-27T01:12:51Z</dcterms:modified>
  <cp:revision>745</cp:revision>
  <dc:subject/>
  <dc:title>슬라이드 1</dc:title>
</cp:coreProperties>
</file>