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939338" cy="1436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E4F-49E7-4C3C-9F2A-C7E8A0B6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2CA-36DB-475B-9CDF-44B35298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8B7-47F0-4066-B52A-7C9A988D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6BF-DF8D-40AC-BDE7-46924BF0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591-470B-45A5-8FD2-EE2CED00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907-5407-451A-AFB0-182B0CB2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96B-91CF-4BCF-8D0B-F04C2A59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5DE-052D-40ED-AB4B-7EF32A8D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34E-47D8-4CB3-8C5A-56CC0A4A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244-D48E-4BF0-B8E8-C10C710E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C5A-DAAF-45E0-9A6F-7DE4C7AD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52A-BA19-453D-B0D4-B0844324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E01F-27C7-4C17-8F65-B0DF025A06F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1"/>
          <p:cNvSpPr/>
          <p:nvPr/>
        </p:nvSpPr>
        <p:spPr>
          <a:xfrm>
            <a:off x="4618080" y="1646280"/>
            <a:ext cx="2133720" cy="4027320"/>
          </a:xfrm>
          <a:prstGeom prst="rect">
            <a:avLst/>
          </a:prstGeom>
          <a:noFill/>
          <a:ln w="66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직사각형 11"/>
          <p:cNvSpPr/>
          <p:nvPr/>
        </p:nvSpPr>
        <p:spPr>
          <a:xfrm>
            <a:off x="0" y="920880"/>
            <a:ext cx="6958080" cy="84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18"/>
          <p:cNvSpPr/>
          <p:nvPr/>
        </p:nvSpPr>
        <p:spPr>
          <a:xfrm>
            <a:off x="2817720" y="104292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주 일요일 및 공휴일 오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립김해박물관 강당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37"/>
          <p:cNvSpPr/>
          <p:nvPr/>
        </p:nvSpPr>
        <p:spPr>
          <a:xfrm>
            <a:off x="-243000" y="9274320"/>
            <a:ext cx="7345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-27000" y="927576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Box 18"/>
          <p:cNvSpPr/>
          <p:nvPr/>
        </p:nvSpPr>
        <p:spPr>
          <a:xfrm>
            <a:off x="44280" y="934704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직사각형 34" descr=""/>
          <p:cNvPicPr/>
          <p:nvPr/>
        </p:nvPicPr>
        <p:blipFill>
          <a:blip r:embed="rId1"/>
          <a:stretch/>
        </p:blipFill>
        <p:spPr>
          <a:xfrm>
            <a:off x="579600" y="122400"/>
            <a:ext cx="5754600" cy="1261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4"/>
          <p:cNvSpPr/>
          <p:nvPr/>
        </p:nvSpPr>
        <p:spPr>
          <a:xfrm>
            <a:off x="4603680" y="829944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lt;</a:t>
            </a:r>
            <a:r>
              <a:rPr b="1" lang="ko-KR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유사시 상영작</a:t>
            </a: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아이스 에이지</a:t>
            </a: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: </a:t>
            </a: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대륙이동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메이션 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92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26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3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Picture 37" descr="D:\2017\2. 가족영화감상회\6월\6. 아이스에이지4 대륙이동설.jpg"/>
          <p:cNvPicPr/>
          <p:nvPr/>
        </p:nvPicPr>
        <p:blipFill>
          <a:blip r:embed="rId2"/>
          <a:stretch/>
        </p:blipFill>
        <p:spPr>
          <a:xfrm>
            <a:off x="4834080" y="5867280"/>
            <a:ext cx="1579320" cy="2256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4"/>
          <p:cNvSpPr/>
          <p:nvPr/>
        </p:nvSpPr>
        <p:spPr>
          <a:xfrm>
            <a:off x="92160" y="457344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스노우타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71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2239920" y="4573440"/>
            <a:ext cx="2354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눈의여왕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90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177840" y="838368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곰이 되고 싶어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75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2336760" y="8383680"/>
            <a:ext cx="2171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6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개구리 왕국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85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4530600" y="4570560"/>
            <a:ext cx="2354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그리고 싶은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92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35" descr="D:\2018\정부혁신 로고\★정부혁신 main BI-4.jpg"/>
          <p:cNvPicPr/>
          <p:nvPr/>
        </p:nvPicPr>
        <p:blipFill>
          <a:blip r:embed="rId3"/>
          <a:srcRect l="0" t="0" r="0" b="25907"/>
          <a:stretch/>
        </p:blipFill>
        <p:spPr>
          <a:xfrm>
            <a:off x="5199120" y="9056520"/>
            <a:ext cx="149220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D:\2018\2. 가족영화감상회\8월\5. 개구리 왕국2.jpg"/>
          <p:cNvPicPr/>
          <p:nvPr/>
        </p:nvPicPr>
        <p:blipFill>
          <a:blip r:embed="rId4"/>
          <a:stretch/>
        </p:blipFill>
        <p:spPr>
          <a:xfrm>
            <a:off x="2408400" y="5427720"/>
            <a:ext cx="2017440" cy="288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D:\2018\2. 가족영화감상회\8월\1. 스노우타임.jpg"/>
          <p:cNvPicPr/>
          <p:nvPr/>
        </p:nvPicPr>
        <p:blipFill>
          <a:blip r:embed="rId5"/>
          <a:stretch/>
        </p:blipFill>
        <p:spPr>
          <a:xfrm>
            <a:off x="189000" y="1690560"/>
            <a:ext cx="2009520" cy="28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D:\2018\2. 가족영화감상회\8월\2. 눈의여왕3.jpg"/>
          <p:cNvPicPr/>
          <p:nvPr/>
        </p:nvPicPr>
        <p:blipFill>
          <a:blip r:embed="rId6"/>
          <a:stretch/>
        </p:blipFill>
        <p:spPr>
          <a:xfrm>
            <a:off x="2424240" y="1687680"/>
            <a:ext cx="2012760" cy="288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D:\2018\2. 가족영화감상회\8월\3. 그리고 싶은 것.jpg"/>
          <p:cNvPicPr/>
          <p:nvPr/>
        </p:nvPicPr>
        <p:blipFill>
          <a:blip r:embed="rId7"/>
          <a:stretch/>
        </p:blipFill>
        <p:spPr>
          <a:xfrm>
            <a:off x="4689360" y="1717560"/>
            <a:ext cx="2001960" cy="286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D:\2018\2. 가족영화감상회\8월\4. 곰이 되고 싶어요.jpg"/>
          <p:cNvPicPr/>
          <p:nvPr/>
        </p:nvPicPr>
        <p:blipFill>
          <a:blip r:embed="rId8"/>
          <a:stretch/>
        </p:blipFill>
        <p:spPr>
          <a:xfrm>
            <a:off x="189000" y="5433840"/>
            <a:ext cx="2022480" cy="2883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4724280" y="5324400"/>
            <a:ext cx="26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8/14 </a:t>
            </a:r>
            <a:r>
              <a:rPr b="1" lang="ko-KR" sz="12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위안부 기림의 날 행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8:15:57Z</dcterms:created>
  <dc:creator>user</dc:creator>
  <dc:description/>
  <dc:language>en-US</dc:language>
  <cp:lastModifiedBy>정미은</cp:lastModifiedBy>
  <dcterms:modified xsi:type="dcterms:W3CDTF">2018-07-31T05:39:13Z</dcterms:modified>
  <cp:revision>741</cp:revision>
  <dc:subject/>
  <dc:title>슬라이드 1</dc:title>
</cp:coreProperties>
</file>