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9939338" cy="14366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6D6-AC47-41FB-96A1-71F22B21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BAB-4C2F-46C6-B1D4-F28E604F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7BE4-C670-47F1-9B92-4B0CD487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8F3-26E2-4CE8-8A46-2C639954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22D0-2103-4A9F-8241-6057399F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F5D-9142-40D6-BC32-E99C4316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B0B-CD9A-409E-8488-61B92A3F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0C5-28D0-45C5-B7BF-2FF0B72A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809-6AA3-4F7F-92A9-E6E8713D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07A-1B33-4E24-B8EB-C8D89F23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A7C-A02C-4D98-8A25-87236D61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FC2-F824-4CB0-A6D2-8B1505D4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1800"/>
            <a:ext cx="217152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8D6A-D475-4A97-8C6A-A5F6D6566FC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11"/>
          <p:cNvSpPr/>
          <p:nvPr/>
        </p:nvSpPr>
        <p:spPr>
          <a:xfrm>
            <a:off x="0" y="920880"/>
            <a:ext cx="6958080" cy="84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TextBox 18"/>
          <p:cNvSpPr/>
          <p:nvPr/>
        </p:nvSpPr>
        <p:spPr>
          <a:xfrm>
            <a:off x="2817720" y="1042920"/>
            <a:ext cx="40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주 일요일 및 공휴일 오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립김해박물관 강당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직사각형 37"/>
          <p:cNvSpPr/>
          <p:nvPr/>
        </p:nvSpPr>
        <p:spPr>
          <a:xfrm>
            <a:off x="-243000" y="9274320"/>
            <a:ext cx="734544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Box 18"/>
          <p:cNvSpPr/>
          <p:nvPr/>
        </p:nvSpPr>
        <p:spPr>
          <a:xfrm>
            <a:off x="-27000" y="9275760"/>
            <a:ext cx="6885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위 상영일정 및 내용은 박물관 사정에 따라 변경될 수 있습니다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강당 입장은 영화 시작 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30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분 전부터 선착순이며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무료로 감상하실 수 있습니다</a:t>
            </a:r>
            <a:r>
              <a:rPr b="1" lang="en-US" sz="11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Box 18"/>
          <p:cNvSpPr/>
          <p:nvPr/>
        </p:nvSpPr>
        <p:spPr>
          <a:xfrm>
            <a:off x="44280" y="9347040"/>
            <a:ext cx="6885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위 상영일정 및 내용은 박물관 사정에 따라 변경될 수 있습니다</a:t>
            </a:r>
            <a:r>
              <a:rPr b="1" lang="en-US" sz="11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 </a:t>
            </a: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강당 입장은 영화 시작 </a:t>
            </a:r>
            <a:r>
              <a:rPr b="1" lang="en-US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30</a:t>
            </a: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분 전부터 선착순이며</a:t>
            </a:r>
            <a:r>
              <a:rPr b="1" lang="en-US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, </a:t>
            </a:r>
            <a:r>
              <a:rPr b="1" lang="ko-KR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무료로 감상하실 수 있습니다</a:t>
            </a:r>
            <a:r>
              <a:rPr b="1" lang="en-US" sz="11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직사각형 34" descr=""/>
          <p:cNvPicPr/>
          <p:nvPr/>
        </p:nvPicPr>
        <p:blipFill>
          <a:blip r:embed="rId1"/>
          <a:stretch/>
        </p:blipFill>
        <p:spPr>
          <a:xfrm>
            <a:off x="579600" y="122400"/>
            <a:ext cx="5754600" cy="1261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4"/>
          <p:cNvSpPr/>
          <p:nvPr/>
        </p:nvSpPr>
        <p:spPr>
          <a:xfrm>
            <a:off x="4437000" y="82519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&lt;</a:t>
            </a:r>
            <a:r>
              <a:rPr b="1" lang="ko-KR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유사시 상영작</a:t>
            </a:r>
            <a:r>
              <a:rPr b="1" lang="en-US" sz="9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&gt;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아이스 에이지</a:t>
            </a:r>
            <a:r>
              <a:rPr b="1" lang="en-US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4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: </a:t>
            </a:r>
            <a:r>
              <a:rPr b="1" lang="ko-KR" sz="1000" spc="-1" strike="noStrike">
                <a:solidFill>
                  <a:srgbClr val="404040"/>
                </a:solidFill>
                <a:latin typeface="맑은 고딕"/>
                <a:ea typeface="맑은 고딕"/>
              </a:rPr>
              <a:t>대륙이동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메이션 </a:t>
            </a: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92</a:t>
            </a: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9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22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Rectangle 24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Rectangle 26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28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30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32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34"/>
          <p:cNvSpPr/>
          <p:nvPr/>
        </p:nvSpPr>
        <p:spPr>
          <a:xfrm>
            <a:off x="0" y="1461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37" descr="D:\2017\2. 가족영화감상회\6월\6. 아이스에이지4 대륙이동설.jpg"/>
          <p:cNvPicPr/>
          <p:nvPr/>
        </p:nvPicPr>
        <p:blipFill>
          <a:blip r:embed="rId2"/>
          <a:stretch/>
        </p:blipFill>
        <p:spPr>
          <a:xfrm>
            <a:off x="4719600" y="5945040"/>
            <a:ext cx="1579680" cy="2256120"/>
          </a:xfrm>
          <a:prstGeom prst="rect">
            <a:avLst/>
          </a:prstGeom>
          <a:ln w="0">
            <a:noFill/>
          </a:ln>
        </p:spPr>
      </p:pic>
      <p:sp>
        <p:nvSpPr>
          <p:cNvPr id="56" name="TextBox 24"/>
          <p:cNvSpPr/>
          <p:nvPr/>
        </p:nvSpPr>
        <p:spPr>
          <a:xfrm>
            <a:off x="92160" y="4451400"/>
            <a:ext cx="2171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작은 영웅 데스페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93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2239920" y="4451400"/>
            <a:ext cx="23544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발레리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89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177840" y="8261280"/>
            <a:ext cx="2171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2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지구대표 롤링 스타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90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2336760" y="8261280"/>
            <a:ext cx="21718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9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레고슈퍼히어로</a:t>
            </a:r>
            <a:r>
              <a:rPr b="1" lang="en-US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저스티스 </a:t>
            </a:r>
            <a:r>
              <a:rPr b="1" lang="en-US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vs </a:t>
            </a: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비자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49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Picture 30" descr="D:\2018\2. 가족영화감상회\7월\5. 레고슈퍼히어로 저스티스 vs 비자로.jpg"/>
          <p:cNvPicPr/>
          <p:nvPr/>
        </p:nvPicPr>
        <p:blipFill>
          <a:blip r:embed="rId3"/>
          <a:stretch/>
        </p:blipFill>
        <p:spPr>
          <a:xfrm>
            <a:off x="2451240" y="5473800"/>
            <a:ext cx="1928520" cy="2736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1" descr="D:\2018\2. 가족영화감상회\7월\1. 작은 영웅 데스페로.jpg"/>
          <p:cNvPicPr/>
          <p:nvPr/>
        </p:nvPicPr>
        <p:blipFill>
          <a:blip r:embed="rId4"/>
          <a:stretch/>
        </p:blipFill>
        <p:spPr>
          <a:xfrm>
            <a:off x="316080" y="1617840"/>
            <a:ext cx="1923840" cy="2747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2" descr="D:\2018\2. 가족영화감상회\7월\2. 발레리나.jpg"/>
          <p:cNvPicPr/>
          <p:nvPr/>
        </p:nvPicPr>
        <p:blipFill>
          <a:blip r:embed="rId5"/>
          <a:stretch/>
        </p:blipFill>
        <p:spPr>
          <a:xfrm>
            <a:off x="2465280" y="1638360"/>
            <a:ext cx="1927440" cy="272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3" descr="D:\2018\2. 가족영화감상회\7월\3. 플란다스의 개.jpg"/>
          <p:cNvPicPr/>
          <p:nvPr/>
        </p:nvPicPr>
        <p:blipFill>
          <a:blip r:embed="rId6"/>
          <a:stretch/>
        </p:blipFill>
        <p:spPr>
          <a:xfrm>
            <a:off x="4594320" y="1604880"/>
            <a:ext cx="1936800" cy="276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4" descr="D:\2018\2. 가족영화감상회\7월\4. 지구대표 롤링 스타즈.jpg"/>
          <p:cNvPicPr/>
          <p:nvPr/>
        </p:nvPicPr>
        <p:blipFill>
          <a:blip r:embed="rId7"/>
          <a:stretch/>
        </p:blipFill>
        <p:spPr>
          <a:xfrm>
            <a:off x="299880" y="5473800"/>
            <a:ext cx="1909800" cy="2736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24"/>
          <p:cNvSpPr/>
          <p:nvPr/>
        </p:nvSpPr>
        <p:spPr>
          <a:xfrm>
            <a:off x="4354560" y="4448160"/>
            <a:ext cx="23540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7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월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5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4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플란다스의 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애니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(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더빙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)/ 90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분</a:t>
            </a:r>
            <a:r>
              <a:rPr b="1" lang="en-US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/ </a:t>
            </a:r>
            <a:r>
              <a:rPr b="1" lang="ko-KR" sz="1100" spc="-1" strike="noStrike">
                <a:solidFill>
                  <a:srgbClr val="262626"/>
                </a:solidFill>
                <a:latin typeface="맑은 고딕"/>
                <a:ea typeface="맑은 고딕"/>
              </a:rPr>
              <a:t>전체관람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35" descr="D:\2018\정부혁신 로고\★정부혁신 main BI-4.jpg"/>
          <p:cNvPicPr/>
          <p:nvPr/>
        </p:nvPicPr>
        <p:blipFill>
          <a:blip r:embed="rId8"/>
          <a:srcRect l="0" t="0" r="0" b="25907"/>
          <a:stretch/>
        </p:blipFill>
        <p:spPr>
          <a:xfrm>
            <a:off x="5199120" y="9056520"/>
            <a:ext cx="14922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08:15:57Z</dcterms:created>
  <dc:creator>user</dc:creator>
  <dc:description/>
  <dc:language>en-US</dc:language>
  <cp:lastModifiedBy>정미은</cp:lastModifiedBy>
  <dcterms:modified xsi:type="dcterms:W3CDTF">2018-06-27T12:00:02Z</dcterms:modified>
  <cp:revision>739</cp:revision>
  <dc:subject/>
  <dc:title>슬라이드 1</dc:title>
</cp:coreProperties>
</file>