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939338" cy="1436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480-88F7-4B31-914F-46328C23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662-F7BA-45EE-9B79-633E7FEA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05E-7BA8-491C-9219-42F1F068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A94-6984-4FC8-B47D-F0ECC4C4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2A0-CA61-4E67-93D5-D6C9351A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732-624E-4292-9A23-8D17531D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873-B023-4A94-8FFF-08E8423C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15C-F3AB-4E4D-8D7D-25F3D611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911-F41E-4016-8CF9-2BA71459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BB3-16FB-4F3C-A3F8-02B26702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707-83F2-45EF-BE3C-2D1219F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CE3-B157-44A4-8E8D-73065452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8D38-6E42-46EC-A35E-8174574248E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11"/>
          <p:cNvSpPr/>
          <p:nvPr/>
        </p:nvSpPr>
        <p:spPr>
          <a:xfrm>
            <a:off x="0" y="920880"/>
            <a:ext cx="6958080" cy="84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2817720" y="89676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주 일요일 및 공휴일 오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립김해박물관 강당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직사각형 37"/>
          <p:cNvSpPr/>
          <p:nvPr/>
        </p:nvSpPr>
        <p:spPr>
          <a:xfrm>
            <a:off x="-243000" y="9274320"/>
            <a:ext cx="7345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18"/>
          <p:cNvSpPr/>
          <p:nvPr/>
        </p:nvSpPr>
        <p:spPr>
          <a:xfrm>
            <a:off x="-27000" y="927576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44280" y="934704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직사각형 34" descr=""/>
          <p:cNvPicPr/>
          <p:nvPr/>
        </p:nvPicPr>
        <p:blipFill>
          <a:blip r:embed="rId1"/>
          <a:stretch/>
        </p:blipFill>
        <p:spPr>
          <a:xfrm>
            <a:off x="579600" y="-23760"/>
            <a:ext cx="575460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"/>
          <p:cNvPicPr/>
          <p:nvPr/>
        </p:nvPicPr>
        <p:blipFill>
          <a:blip r:embed="rId2"/>
          <a:stretch/>
        </p:blipFill>
        <p:spPr>
          <a:xfrm>
            <a:off x="5084640" y="9345600"/>
            <a:ext cx="1809720" cy="401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4"/>
          <p:cNvSpPr/>
          <p:nvPr/>
        </p:nvSpPr>
        <p:spPr>
          <a:xfrm>
            <a:off x="4976640" y="596124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lt;</a:t>
            </a:r>
            <a:r>
              <a:rPr b="1" lang="ko-KR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유사시 상영작</a:t>
            </a: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아이스 에이지</a:t>
            </a: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: </a:t>
            </a: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대륙이동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메이션 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92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26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34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Picture 37" descr="D:\2017\2. 가족영화감상회\6월\6. 아이스에이지4 대륙이동설.jpg"/>
          <p:cNvPicPr/>
          <p:nvPr/>
        </p:nvPicPr>
        <p:blipFill>
          <a:blip r:embed="rId3"/>
          <a:stretch/>
        </p:blipFill>
        <p:spPr>
          <a:xfrm>
            <a:off x="5481720" y="6824520"/>
            <a:ext cx="1130040" cy="1613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4"/>
          <p:cNvSpPr/>
          <p:nvPr/>
        </p:nvSpPr>
        <p:spPr>
          <a:xfrm>
            <a:off x="825480" y="4467240"/>
            <a:ext cx="2171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뽀로로 극장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컴퓨터 왕국 대모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62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3860640" y="4467240"/>
            <a:ext cx="2171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터닝메카드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W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블랙미러의 부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72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320760" y="846756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1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리틀 프린세스 소피아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:</a:t>
            </a: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로열 컬렉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114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2913120" y="848196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씽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108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30" descr="D:\2018\2.가족영화감상회\4.씽.jpg"/>
          <p:cNvPicPr/>
          <p:nvPr/>
        </p:nvPicPr>
        <p:blipFill>
          <a:blip r:embed="rId4"/>
          <a:stretch/>
        </p:blipFill>
        <p:spPr>
          <a:xfrm>
            <a:off x="2830680" y="5343480"/>
            <a:ext cx="2435040" cy="31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D:\2018\2.가족영화감상회\1.뽀로로 극장판 컴퓨터 왕국 대모험.jpg"/>
          <p:cNvPicPr/>
          <p:nvPr/>
        </p:nvPicPr>
        <p:blipFill>
          <a:blip r:embed="rId5"/>
          <a:stretch/>
        </p:blipFill>
        <p:spPr>
          <a:xfrm>
            <a:off x="706320" y="1352520"/>
            <a:ext cx="2435400" cy="310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D:\2018\2.가족영화감상회\2.터닝메카드 블랙미러의 부활.jpg"/>
          <p:cNvPicPr/>
          <p:nvPr/>
        </p:nvPicPr>
        <p:blipFill>
          <a:blip r:embed="rId6"/>
          <a:stretch/>
        </p:blipFill>
        <p:spPr>
          <a:xfrm>
            <a:off x="3716280" y="1352520"/>
            <a:ext cx="2449440" cy="31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"/>
          <p:cNvPicPr/>
          <p:nvPr/>
        </p:nvPicPr>
        <p:blipFill>
          <a:blip r:embed="rId7"/>
          <a:stretch/>
        </p:blipFill>
        <p:spPr>
          <a:xfrm>
            <a:off x="142920" y="5343480"/>
            <a:ext cx="2433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8:15:57Z</dcterms:created>
  <dc:creator>user</dc:creator>
  <dc:description/>
  <dc:language>en-US</dc:language>
  <cp:lastModifiedBy>정미은</cp:lastModifiedBy>
  <dcterms:modified xsi:type="dcterms:W3CDTF">2017-12-26T01:33:08Z</dcterms:modified>
  <cp:revision>729</cp:revision>
  <dc:subject/>
  <dc:title>슬라이드 1</dc:title>
</cp:coreProperties>
</file>